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1E6-EC53-4F5B-9BFC-C59EBF98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BE7-6F28-44C2-BA42-C59FE35F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08DF6-40DD-42C9-8CD0-DF6EEC4E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FCFD9-CDFA-4939-BD79-38FC5D81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D173A-50A4-42A0-AB40-CAEBFC10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27AD1-EFA8-47B5-9446-3BA7B408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89F1B-E919-4A97-AAC7-8DBF86CA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B27C0-9D06-4746-983E-21BCABBF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7BBAC-F6DA-43B9-825B-EC7C5112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C5ED8-4958-459C-85B8-CDC8F758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9CB16-64C8-467C-ACD6-D109FA12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D7C82-EE69-4F38-85DC-8731B08A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BD9-E764-4DAA-93F3-C46B2F86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89A59-D581-4925-8B8C-95245DED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8F533-EE3D-4C92-8149-8349C09D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AA813-01CA-42DE-B33D-60EC0327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3F4B2-0008-482A-904C-39F33B40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65ACE-60FD-4674-A2C8-EB32EFC4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47964-397F-4114-A745-F2BF291A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017F7-8F24-45BD-B7B2-E29EDCB8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C139C-8E3D-49F0-9983-703E907F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02A07-6D40-42BC-89E8-72085C3C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7B0BA-5BF2-4F11-8C47-7390DB48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CB2-DB23-41EE-9432-F4509546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17E3C-B184-4F51-921D-0B9BC35B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D8EB5-4DA4-465B-BD91-CD1321EB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1803A-CD05-411E-B257-0EC21AE8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26238-D459-4333-A8DA-AA8C6104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36776-9B5D-427E-9792-52CD5C66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3CE04-1CA7-43EF-8114-0A98C27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86B69-75DF-4508-9F81-17E3F952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8F23B-A4A2-4874-86D1-96439380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76F24-9194-4B77-B483-4000CFDD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937D4-3DAF-41B4-A9B3-F2D320DC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41B0-0F15-4F02-948B-77549680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C7915-EA64-4105-B4C5-29D6357A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65A31-3117-4BFE-BE2D-B414A2C3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92FC2-6627-44EA-A08F-F6F66E25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ACA4D-2751-4283-B08D-1C909397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5F240-6AD1-4E1E-A3CF-C147715D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CBAA8-0134-4D61-95F7-12F03D71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99ABB-2E07-437F-97DF-D6E1462B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FBBF5-E4F0-4AEA-809B-2172298E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A4CF1-F1AE-4ACB-99B1-832BB2F1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D3FF4-F6D5-4265-BFC0-CC7C44AE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896D-F619-48A4-85AE-AB819F99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6115F-5E0B-4714-9200-93AF143B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E4D50-38D7-4EED-974B-068BA198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2AEDE-E091-403B-80CA-F9C31141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47B62-13CC-403B-BB2D-3FEA5244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344AD-036F-4D9E-A5DC-E36235C3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77615-88EE-4CDF-BFC5-689675D0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50F61-86D2-47E1-B85D-FB47A323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90215-3EB1-473D-A440-5B718C74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559F7-0D8E-4CF5-921E-1B3808B0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A8B52-A25D-4BD3-8880-56510A03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B6E0-E60B-4F00-ABE3-BAC48D1E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866F1-3BBF-403A-9941-C550C04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07B6F-BC0F-47E0-89B6-F6FFF7BA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CA59B-2FB3-4029-8714-42101319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9DCE4-13B6-4D36-9265-6CD017CA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707AC-FB3F-4227-AC75-7FE1B9EB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593D1-3A7E-4554-85FD-90CDDEAC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19DE1-A46B-4CB1-8771-A12EB19F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91D55-023A-4358-B3E7-C97A919D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9ABFF-C4F1-4447-8A09-10F07135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4925E-E9E5-4583-B5F6-94DADDAB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8D05-1125-4686-ADFF-F7BBB2B7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A4001-1062-437F-A9CD-551B75DD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43B12-9174-416F-B4A5-405E8BB6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89E36-C730-421E-93CF-22066AFD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E4C7C-4796-4877-865E-70E4F396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AD4B6-7EA9-43C3-B23F-74DD139E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52AF0-F991-4219-8F7C-B62A2808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7973A-A8CA-4CE8-A2EE-A8385DF9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FE41B-F8AB-4020-87FD-33C25BC4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DD79A-B23F-4FEF-8F67-C01EC441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68CF9-F39D-4897-8DF2-711CA6DF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12F3-F47A-44AA-9EEB-A1922EF0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BA082-BB51-4CA7-B587-45EC652E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4CDD3-58B6-40BC-91E4-1FED3FDE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D23A7-A023-483D-9746-FAA23BD5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2DFA0-436B-4778-9866-E3BCC8A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6D670-9A31-4B4A-95D4-993BC131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6818D-C975-4952-AA26-F8D5680A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02BCF-683F-4C72-91E7-4A0D33F7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C8E40-7DA1-4389-BF36-D44B9BC6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10629-AA22-4FF2-AA09-6B2F09EB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22B13-E3EC-4D84-B422-E1887C26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117D-76C9-4D77-BAF9-EDA61B44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E5B42-CFE2-4BBB-BECA-3A1D9F8D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27518-125B-44DD-96EC-183DD19B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E97C6-F338-4A51-BF0E-81311395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DB340-70DA-44C8-B70B-37FDE2F5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D012AC-613A-47D2-80C4-963E64E5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037818-8D8F-45F9-B652-2E284B5C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07FAC-E6DB-411D-AF04-6F010646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5A49A5-0422-4965-B0D6-67629D2D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CC4EC-AD70-435D-BDBA-40B76504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572CB-570F-4ACE-9C46-85BA461E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ADA3-580D-4877-85EE-378CB814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50568-8570-416C-AF23-28CFD1EE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9E016-9E0A-44F8-8C1F-EBF4255C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0961B6-A1AE-4F0C-BAAF-9E0E8322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75C52-658A-447B-84A1-BB57AB47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772CE-12F7-45A2-8F3C-EF63901B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46C1C-38EE-4502-96F9-B1AEB7A0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7697B5-88A8-4E5B-9AC5-E10AB037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AC566-448E-4D1C-BD4F-E777DBB2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2FD04-81E0-4F5C-96E7-095DB2D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8F8F9-E0F7-45CC-A5F0-0C7FE3F8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D5D-073C-442C-839F-30F9EC94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DA45-0CBD-4B81-9976-55B8C4FD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B7994-65C4-48EB-AB52-182A4CC4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7A858-E99F-4B8B-ADE2-1C853990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84A8A6-A75A-41A3-89C8-17FBBA76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3913E-822D-45B4-88E3-68602DCE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A3113-F47B-48E3-9089-CFB9089C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C0A0B-3C95-4D51-A989-6E157C62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F1079-301A-47BF-BDF5-0EBA07E4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3245B-CEE2-40A8-9777-F4AB701B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05B574-994B-45FF-89AA-93FF3CE2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A1C9D-7027-449A-B8B5-22DCBBAD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C909-F2BE-4ED9-B48A-AE21D215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FAD73-59D7-4ECC-92DC-B0BCCEE3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287C0B-49F5-48F6-9A2D-33CCB4FA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5D71DA-3CF5-45B2-BA76-5B7D6DC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4C361-9A24-4206-9775-59C8400F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C289A-5DE0-4B1A-BE9E-769E985C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7396E-F7F4-40C5-A4A8-680A1B1E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5EAC0-95B7-4A93-9AF9-53446847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A3332-1292-4487-9E94-26246F34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C26527-232D-435E-B176-9ACD6E7E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2B5FE1-9BC6-4D07-809F-C7345228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33AC-C804-4172-8663-BBB17B37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6082F-0948-4844-80CA-AF7DEEC1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4F3D4-4F3C-42B7-9BDC-75BE3BBB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6BF6D-9457-4A29-B234-1BFD7C3E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05181-7965-4B55-8733-E7590D3C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34CDD-1B95-43D1-9C30-A617462B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ABB4A9-B307-4B53-A903-6C95D2D8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3C94AB-1A6F-445F-B744-C337ECDF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6ABB9B-8039-45D8-A2D6-11952B62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9DB12-C954-498A-843E-4169BD43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0C56AB-09D7-4AA6-913F-BDBC2674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672C-7CD4-436B-B204-7E23DBA0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05534D-BB3E-4186-8BA8-F1DE5467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88FCD-649E-4B39-BDAF-6CA4D7A8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E3B09-E8C1-4179-9A24-375BC755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5579A-3510-4707-9B8C-A84704F1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D6255-558D-45F4-BE49-A70DEC07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0456B-3556-4191-ACF8-93873047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19532B-0C39-418F-BEC2-8107D682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7D316D-A562-40E3-93F6-B0F3AFAC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337D8-FA0C-4DA5-B11D-81353936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A62D0-1CF5-4214-AA7F-EB594FF2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9871-E2C4-4849-8BC2-D3584135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7D6FB-6A3D-483B-A81C-554F2432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AF5F44-17AE-4C7E-981D-1D7B548E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30BA88-DE5E-4E4C-A0E6-3E98CCB1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472F1-08BD-452E-B98C-8B76C449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5009C9-D22B-4FA3-899C-426F495F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CC6F5-1DE7-437D-AB6C-88C271A3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22A44A-D078-41EA-B6F0-73229AB7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19831B-B9C5-4663-8EAB-39203E5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238878-CC2C-402F-AAE7-9335C733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E040A-0906-4A5E-84B1-AD47022E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AA7B-64A2-4513-A739-B64AA7C1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489D5F-BC20-4F9F-B6C7-42437B9F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180BB-05DE-4FE1-BA7A-5ECA493D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E604E8-EEE8-4C90-8857-8B3BA771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0C9F-6968-4544-949F-41CA04A9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4374-2E24-4E25-9A1D-815914E6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4F907-5F50-4110-83D4-7B64AE2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6502-AFB2-4744-B101-C8A00601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22A-70C0-4F19-A5FD-200D791C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5711D-81A3-453B-B785-EFD5B639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843C-0648-42FC-9E1B-2AFD77E4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567B0-AB99-4B81-BAA7-A9F4E807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94C9-5008-4526-8E7D-9F535850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6835-2CBC-4766-A39F-B241C5E4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DA3DA-E4D8-40F1-B121-3849A67C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7B71-1BA7-431F-8F95-EBF2DA20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322F-04F1-484E-903E-2B4E6B78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DE3A-0254-4EE3-B56E-45208FE1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A3D8-73C1-4266-B7AF-F54154EE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B5B-805B-44D9-97D0-334380B3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75CDE-2EBB-4FB8-9AD7-0DF44944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1DDD-DAD1-4689-B5F5-42A17561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0195-9B97-4EB4-AB28-33C5D1A0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84F7-223B-4B36-B8EA-04A5EEE0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241E2-430B-4C8D-8295-380FFC55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29F4-7621-450C-B1F7-3AA1CBC9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68A1-E7A3-476C-B88A-6D1DEC4E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98C68-48F6-4AC8-8E2D-00D585DE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12F03-EB79-4BBD-BDBB-6A3EA3A1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8A5CD-6085-48D2-995D-863EC77D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7C7-D909-423D-B8C9-6FF291D8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A3C35-33D8-4C12-9BD9-737DD235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36D93-0D5F-412C-8288-94352225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AC91-01BB-40F3-AEB5-E3EFE222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F8365-CC70-431D-93D2-3A7B4BC1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441D5-B929-42AF-8CB1-D076D5B0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B8FF6-6E03-45EB-B0DE-65881E11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DA686-7B52-4BEA-9D91-414CDA2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25FA3-FAD3-4616-B553-95A04B90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EA17C-1D7A-49C7-A216-AC695A7D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B38C4-B7C0-498F-B447-A6AC6620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388-F09D-42EB-9375-CDA80CD3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9DCC1-0E5D-4F5A-A9BC-CBCE83C9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C01BC-CE03-478C-837F-70AC1C70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582AE-9864-420E-9F99-7D896F87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B372A-BBAB-4F2A-8438-206AD606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4A8A2-83BC-4F5C-B6AB-01ABFB08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42381-7941-4ACB-B607-AC086A04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D6EAB-9875-4277-A492-9AB4B4EC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62F6F-B87C-40C2-A50C-21142804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ECAB4-4791-49B3-B07F-15B08812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FA5D3-BF6B-48B2-93F4-F000853A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9A7-0B98-4225-9F8A-644EB311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01606-C62F-43B0-B252-CBC2D8DB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1ADF0-0EAE-4740-A33C-0EE721EC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B5A33-3150-4B41-826B-7222AB34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272DB-8E7D-4DC4-AF66-DF454A16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1B71C-ABB8-4338-876B-59C770A2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219F7-5936-49A7-834B-54BFDC9C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43D38-DD90-467E-ACD8-4C3779AC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18A1E-CFAA-41F2-88A9-6B4C49EE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108FF-DAC5-4071-BBD6-1F6C8A3F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6C8FA-F1D4-4397-B08F-1C56C137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346-E653-4AD5-9CC7-CC1CBA99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1D14D-3269-45B9-9377-5EC4AF34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11082-1D63-44DB-ADFD-E3DE46B8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DDE10-9483-4298-A779-E60E01D3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8C297-3003-4B04-9655-40F201F6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5543E-4BA7-4976-A79E-2E997414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83E06-195C-4534-A693-53821BA1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33E26-D708-4CFD-B0F9-B4798EDF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4716D-383D-4FAF-9D8A-1038FA55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7790F-C59F-43D7-AC07-6FC33554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B6D61-197A-4770-B2AF-05492B02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0BD-10C2-430E-B8CB-F82A5D57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0AA12-5927-4224-B70A-194F5C19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94ECB-A4D3-4706-BE4D-6A2D1D87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F8B1D-17BC-4E9D-B9AC-43F26DFB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DB01D-480E-4837-A134-38D45D0F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3BE62-1FC2-4233-A7E4-318CD140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B7ACF-3803-43F9-B5D0-11A5BA72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91BA7-9040-4200-A9EB-AADA8CA6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89F4D-F1B3-461C-9DAB-8C91D2DF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1CF7C-37B0-48B3-8352-175768AE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8F08B-8E8A-4197-8CA8-AAC98E08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7A8E-610F-4691-98EB-A74A6A05D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6CBA-4D82-4D27-AAFA-71E91B3686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A83F-8588-42DF-AB2F-3C3D33C81E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F0B4-7A9F-4D01-8F7E-9C9107CA62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EC24-F0A5-473C-9972-8D85EC9FDF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2922-0160-45D3-A572-D32AAD8511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6F75-11FA-4939-8A24-324500BCBF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7503-C8E6-4D11-81DC-11407D8B94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9E44-B156-489B-AD7A-1441C81E2E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1BBB-A487-4C86-A3F5-D6A7601BC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70CA-B5D6-4517-85B5-03823FF4AB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7142-469B-46ED-8C5C-20AC2817F7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A26E-F4BC-4328-A785-A50E82AAA5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ACE5-7DAE-40CC-9C79-785F2DAF7F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23CE-492A-4EBE-B5AE-79CDB8CE16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8025-8D59-4A13-AAC0-75E5C1464E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E681-DCCC-4BB9-A9A1-CEC90E9208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2799-86C2-491C-892B-7D5B320676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090E-F181-4D07-968C-454C5CDD85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9F25-F9BD-432C-AF8C-28D7B77993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2A3E-F092-47F4-9D72-35D15D8C9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D6D3-B38D-4DB5-B56E-FAE8CCA615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6EB0-2382-47E7-BA46-9F93C0CBF3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A66B-B0EF-49F3-9B8B-CFBAC9136B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D537-989B-4E35-818C-61B0DFF042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0EBA-9053-4665-A5CC-D82A1DACF9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B12F-90C7-406C-B245-AC06689C9F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6B3C-A5CA-4B4D-8289-B2E156024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2796-BC27-439A-8441-D66C852025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EE63-858D-465D-B220-89981058AC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08AC-ECF6-4718-95B5-AB0567D711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E61C-8327-457F-8CB9-70120B153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7AAF-FC82-4BE7-A7D9-323E40260E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32F5-81C3-4F95-8AEB-9B21702126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CC30-FDDC-4C55-82B0-112CE53517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ADE0-0822-4E42-91B1-6309821EE5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CC74-62D2-4C97-8800-8D8C9E364B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9FBE-B0AC-42A8-8DC0-2687B2C82C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69F5-6541-4366-B433-43A9BDD5CD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94C7-13DE-461E-97A8-CABE241F4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162080" y="3009960"/>
            <a:ext cx="6819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42920" y="1104840"/>
            <a:ext cx="8858160" cy="4648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48360" y="2651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16000" y="3803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148360" y="3803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16000" y="5027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5148360" y="50277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23840" y="2090880"/>
            <a:ext cx="8896320" cy="26762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2268360" y="3687840"/>
            <a:ext cx="604872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2124000" y="4278240"/>
            <a:ext cx="6048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571680" y="341280"/>
            <a:ext cx="8001000" cy="631512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6146" descr=""/>
          <p:cNvPicPr/>
          <p:nvPr/>
        </p:nvPicPr>
        <p:blipFill>
          <a:blip r:embed="rId2"/>
          <a:stretch/>
        </p:blipFill>
        <p:spPr>
          <a:xfrm>
            <a:off x="4572000" y="2506680"/>
            <a:ext cx="1152360" cy="55872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6147" descr=""/>
          <p:cNvPicPr/>
          <p:nvPr/>
        </p:nvPicPr>
        <p:blipFill>
          <a:blip r:embed="rId3"/>
          <a:stretch/>
        </p:blipFill>
        <p:spPr>
          <a:xfrm>
            <a:off x="5651640" y="4062240"/>
            <a:ext cx="1225440" cy="55908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6148" descr=""/>
          <p:cNvPicPr/>
          <p:nvPr/>
        </p:nvPicPr>
        <p:blipFill>
          <a:blip r:embed="rId4"/>
          <a:stretch/>
        </p:blipFill>
        <p:spPr>
          <a:xfrm>
            <a:off x="4498920" y="5630760"/>
            <a:ext cx="10810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490680" y="1924200"/>
            <a:ext cx="8161200" cy="300960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7170" descr=""/>
          <p:cNvPicPr/>
          <p:nvPr/>
        </p:nvPicPr>
        <p:blipFill>
          <a:blip r:embed="rId2"/>
          <a:stretch/>
        </p:blipFill>
        <p:spPr>
          <a:xfrm>
            <a:off x="3635280" y="2319480"/>
            <a:ext cx="1224000" cy="5587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7171" descr=""/>
          <p:cNvPicPr/>
          <p:nvPr/>
        </p:nvPicPr>
        <p:blipFill>
          <a:blip r:embed="rId3"/>
          <a:stretch/>
        </p:blipFill>
        <p:spPr>
          <a:xfrm>
            <a:off x="2871720" y="3875040"/>
            <a:ext cx="17002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7:15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